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image2.gif" ContentType="image/gif"/>
  <Override PartName="/ppt/media/jetflyby2.wav" ContentType="audio/x-wav"/>
  <Override PartName="/ppt/media/bserie06.wav" ContentType="audio/x-wav"/>
  <Override PartName="/ppt/media/hzipup01.wav" ContentType="audio/x-wav"/>
  <Override PartName="/ppt/media/image3.gif" ContentType="image/gif"/>
  <Override PartName="/ppt/media/highchime.wav" ContentType="audio/x-wav"/>
  <Override PartName="/ppt/media/caralarmoff.wav" ContentType="audio/x-wav"/>
  <Override PartName="/ppt/media/lzipup01.wav" ContentType="audio/x-wav"/>
  <Override PartName="/ppt/media/image1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159-7DEE-4729-834C-5AA7D628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A41-5349-461A-BA8E-C8EE1A1B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FBE-74C4-434C-A96B-A39837BC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DCC-A27B-4D65-8990-F778A375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C54-294D-452F-BA1D-CC59FF35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582-B8FB-4F72-8213-6569F980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62B-0ACB-4421-BA2F-105C7A6D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02F-A9FB-470D-BE41-A32CBD75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391-8B75-4ECF-BCCC-21DFB16C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C7A-CE05-481E-B1BD-2DC17D62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BCE-F4E5-4B1E-B9D3-67FB2CE3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6E0-C89F-45BA-828A-4F9376AC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C1A0-FBEC-4A21-9C7B-A13638F67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bserie06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bserie06.wav"/><Relationship Id="rId17" Type="http://schemas.openxmlformats.org/officeDocument/2006/relationships/audio" Target="../media/zipdn10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bserie06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ipdn102.wav"/><Relationship Id="rId24" Type="http://schemas.openxmlformats.org/officeDocument/2006/relationships/audio" Target="../media/zapbig0g.wav"/><Relationship Id="rId25" Type="http://schemas.openxmlformats.org/officeDocument/2006/relationships/audio" Target="../media/hzipup01.wav"/><Relationship Id="rId26" Type="http://schemas.openxmlformats.org/officeDocument/2006/relationships/audio" Target="../media/bserie06.wav"/><Relationship Id="rId27" Type="http://schemas.openxmlformats.org/officeDocument/2006/relationships/audio" Target="../media/zapbig0g.wav"/><Relationship Id="rId28" Type="http://schemas.openxmlformats.org/officeDocument/2006/relationships/audio" Target="../media/caralarmoff.wav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bserie06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bserie06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audio" Target="../media/zapbig0g.wav"/><Relationship Id="rId21" Type="http://schemas.openxmlformats.org/officeDocument/2006/relationships/audio" Target="../media/hzipup01.wav"/><Relationship Id="rId22" Type="http://schemas.openxmlformats.org/officeDocument/2006/relationships/audio" Target="../media/bserie06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ipdn102.wav"/><Relationship Id="rId26" Type="http://schemas.openxmlformats.org/officeDocument/2006/relationships/audio" Target="../media/zapbig0g.wav"/><Relationship Id="rId27" Type="http://schemas.openxmlformats.org/officeDocument/2006/relationships/audio" Target="../media/hzipup01.wav"/><Relationship Id="rId28" Type="http://schemas.openxmlformats.org/officeDocument/2006/relationships/audio" Target="../media/bserie06.wav"/><Relationship Id="rId29" Type="http://schemas.openxmlformats.org/officeDocument/2006/relationships/audio" Target="../media/zapbig0g.wav"/><Relationship Id="rId30" Type="http://schemas.openxmlformats.org/officeDocument/2006/relationships/audio" Target="../media/zapbig0g.wav"/><Relationship Id="rId31" Type="http://schemas.openxmlformats.org/officeDocument/2006/relationships/audio" Target="../media/zipdn102.wav"/><Relationship Id="rId32" Type="http://schemas.openxmlformats.org/officeDocument/2006/relationships/audio" Target="../media/zapbig0g.wav"/><Relationship Id="rId33" Type="http://schemas.openxmlformats.org/officeDocument/2006/relationships/audio" Target="../media/hzipup01.wav"/><Relationship Id="rId34" Type="http://schemas.openxmlformats.org/officeDocument/2006/relationships/audio" Target="../media/bserie06.wav"/><Relationship Id="rId35" Type="http://schemas.openxmlformats.org/officeDocument/2006/relationships/audio" Target="../media/zapbig0g.wav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highchime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hzipup01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hzipup01.wav"/><Relationship Id="rId18" Type="http://schemas.openxmlformats.org/officeDocument/2006/relationships/audio" Target="../media/hzipup01.wav"/><Relationship Id="rId19" Type="http://schemas.openxmlformats.org/officeDocument/2006/relationships/audio" Target="../media/bserie06.wav"/><Relationship Id="rId20" Type="http://schemas.openxmlformats.org/officeDocument/2006/relationships/audio" Target="../media/zipdn102.wav"/><Relationship Id="rId21" Type="http://schemas.openxmlformats.org/officeDocument/2006/relationships/audio" Target="../media/zipdn102.wav"/><Relationship Id="rId22" Type="http://schemas.openxmlformats.org/officeDocument/2006/relationships/audio" Target="../media/zapbig0g.wav"/><Relationship Id="rId23" Type="http://schemas.openxmlformats.org/officeDocument/2006/relationships/audio" Target="../media/hzipup01.wav"/><Relationship Id="rId24" Type="http://schemas.openxmlformats.org/officeDocument/2006/relationships/audio" Target="../media/bserie06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zipdn102.wav"/><Relationship Id="rId28" Type="http://schemas.openxmlformats.org/officeDocument/2006/relationships/audio" Target="../media/zapbig0g.wav"/><Relationship Id="rId29" Type="http://schemas.openxmlformats.org/officeDocument/2006/relationships/audio" Target="../media/hzipup01.wav"/><Relationship Id="rId30" Type="http://schemas.openxmlformats.org/officeDocument/2006/relationships/audio" Target="../media/bserie06.wav"/><Relationship Id="rId31" Type="http://schemas.openxmlformats.org/officeDocument/2006/relationships/audio" Target="../media/zapbig0g.wav"/><Relationship Id="rId32" Type="http://schemas.openxmlformats.org/officeDocument/2006/relationships/audio" Target="../media/zipdn102.wav"/><Relationship Id="rId33" Type="http://schemas.openxmlformats.org/officeDocument/2006/relationships/audio" Target="../media/caralarmoff.wav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hzipup01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bserie06.wav"/><Relationship Id="rId19" Type="http://schemas.openxmlformats.org/officeDocument/2006/relationships/audio" Target="../media/zipdn102.wav"/><Relationship Id="rId20" Type="http://schemas.openxmlformats.org/officeDocument/2006/relationships/audio" Target="../media/zipdn102.wav"/><Relationship Id="rId21" Type="http://schemas.openxmlformats.org/officeDocument/2006/relationships/audio" Target="../media/zapbig0g.wav"/><Relationship Id="rId22" Type="http://schemas.openxmlformats.org/officeDocument/2006/relationships/audio" Target="../media/hzipup01.wav"/><Relationship Id="rId23" Type="http://schemas.openxmlformats.org/officeDocument/2006/relationships/audio" Target="../media/bserie06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audio" Target="../media/zipdn102.wav"/><Relationship Id="rId27" Type="http://schemas.openxmlformats.org/officeDocument/2006/relationships/audio" Target="../media/zapbig0g.wav"/><Relationship Id="rId28" Type="http://schemas.openxmlformats.org/officeDocument/2006/relationships/audio" Target="../media/hzipup01.wav"/><Relationship Id="rId29" Type="http://schemas.openxmlformats.org/officeDocument/2006/relationships/audio" Target="../media/bserie06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audio" Target="../media/zipdn102.wav"/><Relationship Id="rId33" Type="http://schemas.openxmlformats.org/officeDocument/2006/relationships/audio" Target="../media/zapbig0g.wav"/><Relationship Id="rId34" Type="http://schemas.openxmlformats.org/officeDocument/2006/relationships/audio" Target="../media/hzipup01.wav"/><Relationship Id="rId35" Type="http://schemas.openxmlformats.org/officeDocument/2006/relationships/audio" Target="../media/bserie06.wav"/><Relationship Id="rId36" Type="http://schemas.openxmlformats.org/officeDocument/2006/relationships/audio" Target="../media/zapbig0g.wav"/><Relationship Id="rId37" Type="http://schemas.openxmlformats.org/officeDocument/2006/relationships/audio" Target="../media/caralarmoff.wav"/><Relationship Id="rId3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average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26880" y="1357200"/>
                <a:ext cx="34894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727520" y="1371600"/>
            <a:ext cx="27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s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1000" y="398772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79640" y="542448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50880" y="4591080"/>
            <a:ext cx="15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03320" y="46245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19160" y="5327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01680" y="5334120"/>
            <a:ext cx="9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79680" y="2889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2960" y="3425760"/>
            <a:ext cx="26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35440" y="1914480"/>
            <a:ext cx="440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Divide the sum by the number of par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5080" y="353232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5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67320" y="365292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36960" y="34956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86360" y="2825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75240" y="3636720"/>
            <a:ext cx="612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70520" y="527364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32480" y="4100400"/>
            <a:ext cx="89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9040" y="59436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84880" y="4743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37160" y="4748040"/>
            <a:ext cx="8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54360" y="489096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65800" y="2809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1400" y="6093000"/>
            <a:ext cx="115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9720" y="404028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95880" y="52880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2400" y="2075040"/>
            <a:ext cx="197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8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average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9520" y="1268280"/>
                <a:ext cx="6829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,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541520" y="4148280"/>
            <a:ext cx="14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95480" y="559908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8280" y="4765680"/>
            <a:ext cx="145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19160" y="4799160"/>
            <a:ext cx="6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86080" y="5459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44800" y="545148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03480" y="19018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63840" y="3600360"/>
            <a:ext cx="141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4360" y="2460600"/>
            <a:ext cx="141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5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49440" y="3033720"/>
            <a:ext cx="15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1908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86080" y="5456160"/>
            <a:ext cx="78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5280" y="2562120"/>
            <a:ext cx="15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.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7520" y="268272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97160" y="252576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1760" y="1870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735440" y="266652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1760" y="428940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92680" y="313056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67440" y="49878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11720" y="37450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97360" y="3763800"/>
            <a:ext cx="54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14920" y="392112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08560" y="1868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19440" y="513720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89440" y="185256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09920" y="307008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97400" y="43178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38960" y="497988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16680" y="186228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53040" y="548640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03920" y="630540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78400" y="55008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50040" y="61466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42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. Marco spent $2.65, $3.30, and $3.95 on lunches in three days. What was the average Marco spent on lunches each 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450720" y="412920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3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7920" y="556560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9160" y="4732200"/>
            <a:ext cx="15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9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1600" y="47656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8120" y="5443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7760" y="544680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62240" y="301788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28760" y="3567240"/>
            <a:ext cx="26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6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46440" y="3290760"/>
            <a:ext cx="15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.9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68680" y="341136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38320" y="325440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4360" y="25686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76600" y="339516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4960" y="503244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33840" y="385920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5600" y="565776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7280" y="45021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38520" y="450684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56080" y="464976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21000" y="25686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22760" y="585144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51080" y="379872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97240" y="50468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0680" y="221616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$3.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5120" y="5467320"/>
            <a:ext cx="7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011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16520" y="260820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48240" y="25606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454880" y="4203720"/>
            <a:ext cx="1260360" cy="126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32720" y="539280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883120" y="4483080"/>
            <a:ext cx="80352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992920" y="1925640"/>
            <a:ext cx="2527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11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42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. The amount of snow that fell in 5 months in Toronto were .36, .71, .95, 2.88, and 3.85. What was the average snowfall during these 5 month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441360" y="4805280"/>
            <a:ext cx="26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8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280" y="624204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880" y="5408640"/>
            <a:ext cx="15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8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0960" y="544212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17840" y="61196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7480" y="6122880"/>
            <a:ext cx="5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00320" y="261288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419040" y="424332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9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18040" y="274320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.7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39920" y="2863800"/>
            <a:ext cx="13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920" y="27068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25960" y="20210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147840" y="2847600"/>
            <a:ext cx="6480" cy="66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25960" y="4513320"/>
            <a:ext cx="9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5080" y="331164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06840" y="51102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38520" y="39546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9760" y="395928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7320" y="410220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92600" y="20210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94000" y="530388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22680" y="325116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68480" y="449892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" y="1979640"/>
            <a:ext cx="258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= 1.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4480" y="6143760"/>
            <a:ext cx="73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1320" y="2620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7760" y="206064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9480" y="20131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425520" y="3706920"/>
            <a:ext cx="26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7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419040" y="311616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0.3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5400" y="51069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25920" y="557856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93960" y="6369120"/>
            <a:ext cx="7318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68800" y="556416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33720" y="61358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602320" y="2392200"/>
            <a:ext cx="2724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87, 7 – 11 #1 – 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6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1-13T17:21:18Z</dcterms:modified>
  <cp:revision>90</cp:revision>
  <dc:subject/>
  <dc:title>Slide 1</dc:title>
</cp:coreProperties>
</file>